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268-256C-43A3-BCC8-3101D38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C8A-732C-414E-8B29-A5250277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B85-6590-4173-888A-228B6A3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A35-3132-4EE4-96AE-010689B9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38DD-1AFA-41A0-B206-F9D7D010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9CE-E52A-434A-97D4-B5FF57D0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EEE5-B334-41D6-A787-DBE5A71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7FF0-F28B-4D56-B0D8-0BD288F0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470C-552A-4E40-ADFE-B6BBE95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1408-5CFD-410D-B832-D4ED14FB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DB23-B090-4A85-9111-C969EB3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AB0-38C0-437A-AB4A-61D0EAC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BAEF-95B0-4256-886B-BAE4190B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81E5-84E2-4DE4-AFF3-47E1CF6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1989-CDD3-4EC3-BCE0-23D3E6B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3CD4-D523-4ED0-8CBE-66577FD1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BEC9-9FCF-44E6-B4E9-15778480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B0A7E-44D8-49BE-A657-77FC4FB1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E6CE4-86B7-4959-A94F-0B47392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F9715-80B0-4B50-A29A-10D7A88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B5D77-9C60-465F-9125-6413AA08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6B8C3-E2DB-4566-96C3-6E1DA8E8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EB1-6520-4063-95C8-1291865B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F5D97-9DCA-42E8-A616-66B69995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08592-064B-48FE-81D3-A74D15C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98C50-6099-4B7D-8B93-DAC2131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5140C-FCB9-4E99-B6F6-4C0AEAE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5C5BC-C03C-484D-922F-8DDFC7CB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29C96-F035-4807-9672-0FA4D380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197C1-7400-4CBF-92E9-E15C5105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9696-D3BA-407E-B632-1EB7A88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E479-F48F-4CD9-A020-961C85F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203D-0260-4AFA-B003-89FB0029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2E8-F3A1-41A1-8AE4-786B43B2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188F-C82F-40E3-ADB6-D972011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6D947-18C3-43A3-BC48-AB19F02A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2299-2AD4-4EF7-B5BB-A410C56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BBEB-C1F2-4133-9F15-F21CAAC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B68D-B2CF-4D0E-A752-F270EAB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D098-0823-4506-9F20-572F477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DCCB-F6B9-4580-928A-CD8D09A4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6108-9B8B-49A0-8A40-A7C6C1F8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33F0-82E0-47A6-A721-B373135D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1FE-921C-4CCC-84CE-F63E144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93D-DE5F-486F-B30C-F02B5C8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FC3-AB9A-478C-85DB-1200A806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CCD-4BED-4B80-A806-1CD4775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BAB-CF06-4F52-896D-B4B558F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AAE5-01A0-4210-BB13-1AAD0F3D438A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591D-7713-43D3-A648-17211C07A2BC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E7A-4720-4DD2-B52D-93681D566F1F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62C-E4BD-48F5-8C8D-3911970C79EE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456080" y="115920"/>
            <a:ext cx="3859200" cy="2066760"/>
          </a:xfrm>
          <a:prstGeom prst="rect">
            <a:avLst/>
          </a:prstGeom>
          <a:ln w="0">
            <a:noFill/>
          </a:ln>
        </p:spPr>
      </p:pic>
      <p:pic>
        <p:nvPicPr>
          <p:cNvPr id="336" name="Podtytuł 2" descr=""/>
          <p:cNvPicPr/>
          <p:nvPr/>
        </p:nvPicPr>
        <p:blipFill>
          <a:blip r:embed="rId2"/>
          <a:stretch/>
        </p:blipFill>
        <p:spPr>
          <a:xfrm>
            <a:off x="4432320" y="2309760"/>
            <a:ext cx="1335240" cy="830160"/>
          </a:xfrm>
          <a:prstGeom prst="rect">
            <a:avLst/>
          </a:prstGeom>
          <a:ln w="0">
            <a:noFill/>
          </a:ln>
        </p:spPr>
      </p:pic>
      <p:pic>
        <p:nvPicPr>
          <p:cNvPr id="337" name="Obraz 3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3922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4c600"/>
                </a:solidFill>
                <a:latin typeface="Century Gothic"/>
              </a:rPr>
              <a:t>Wypisz wszystkie liczby, które leżą w labiryncie na „trasie” od startu do met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40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41" name="Łuk 9" descr=""/>
            <p:cNvPicPr/>
            <p:nvPr/>
          </p:nvPicPr>
          <p:blipFill>
            <a:blip r:embed="rId1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43" name="Objaśnienie prostokątne zaokrąglone 4"/>
          <p:cNvSpPr/>
          <p:nvPr/>
        </p:nvSpPr>
        <p:spPr>
          <a:xfrm>
            <a:off x="6178680" y="450864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Sprawdź, które liczby dzielą się przez </a:t>
            </a: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Obraz 12" descr=""/>
          <p:cNvPicPr/>
          <p:nvPr/>
        </p:nvPicPr>
        <p:blipFill>
          <a:blip r:embed="rId2"/>
          <a:stretch/>
        </p:blipFill>
        <p:spPr>
          <a:xfrm>
            <a:off x="1851120" y="2119320"/>
            <a:ext cx="4176720" cy="4260960"/>
          </a:xfrm>
          <a:prstGeom prst="rect">
            <a:avLst/>
          </a:prstGeom>
          <a:ln w="0">
            <a:noFill/>
          </a:ln>
        </p:spPr>
      </p:pic>
      <p:sp>
        <p:nvSpPr>
          <p:cNvPr id="345" name="pole tekstowe 36"/>
          <p:cNvSpPr/>
          <p:nvPr/>
        </p:nvSpPr>
        <p:spPr>
          <a:xfrm>
            <a:off x="1236600" y="42354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tart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Strzałka w prawo z wcięciem 13"/>
          <p:cNvSpPr/>
          <p:nvPr/>
        </p:nvSpPr>
        <p:spPr>
          <a:xfrm rot="1053000">
            <a:off x="1553760" y="3767040"/>
            <a:ext cx="863640" cy="550800"/>
          </a:xfrm>
          <a:custGeom>
            <a:avLst/>
            <a:gdLst>
              <a:gd name="textAreaLeft" fmla="*/ 137880 w 863640"/>
              <a:gd name="textAreaRight" fmla="*/ 725760 w 86364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04" y="5400"/>
                </a:lnTo>
                <a:lnTo>
                  <a:pt x="14704" y="0"/>
                </a:lnTo>
                <a:lnTo>
                  <a:pt x="21600" y="10800"/>
                </a:lnTo>
                <a:lnTo>
                  <a:pt x="14704" y="21600"/>
                </a:lnTo>
                <a:lnTo>
                  <a:pt x="14704" y="16200"/>
                </a:lnTo>
                <a:lnTo>
                  <a:pt x="0" y="16200"/>
                </a:lnTo>
                <a:lnTo>
                  <a:pt x="34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ole tekstowe 37"/>
          <p:cNvSpPr/>
          <p:nvPr/>
        </p:nvSpPr>
        <p:spPr>
          <a:xfrm>
            <a:off x="4875120" y="224316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ta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ole tekstowe 3"/>
          <p:cNvSpPr/>
          <p:nvPr/>
        </p:nvSpPr>
        <p:spPr>
          <a:xfrm>
            <a:off x="2643120" y="39909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ole tekstowe 38"/>
          <p:cNvSpPr/>
          <p:nvPr/>
        </p:nvSpPr>
        <p:spPr>
          <a:xfrm>
            <a:off x="2643120" y="4711680"/>
            <a:ext cx="5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29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ole tekstowe 39"/>
          <p:cNvSpPr/>
          <p:nvPr/>
        </p:nvSpPr>
        <p:spPr>
          <a:xfrm>
            <a:off x="3362400" y="471636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17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ole tekstowe 40"/>
          <p:cNvSpPr/>
          <p:nvPr/>
        </p:nvSpPr>
        <p:spPr>
          <a:xfrm>
            <a:off x="4041720" y="36482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ole tekstowe 41"/>
          <p:cNvSpPr/>
          <p:nvPr/>
        </p:nvSpPr>
        <p:spPr>
          <a:xfrm>
            <a:off x="2786040" y="3220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ole tekstowe 42"/>
          <p:cNvSpPr/>
          <p:nvPr/>
        </p:nvSpPr>
        <p:spPr>
          <a:xfrm>
            <a:off x="3686040" y="32925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722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ole tekstowe 43"/>
          <p:cNvSpPr/>
          <p:nvPr/>
        </p:nvSpPr>
        <p:spPr>
          <a:xfrm>
            <a:off x="3576600" y="5504040"/>
            <a:ext cx="5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ole tekstowe 44"/>
          <p:cNvSpPr/>
          <p:nvPr/>
        </p:nvSpPr>
        <p:spPr>
          <a:xfrm>
            <a:off x="4370400" y="50734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88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ole tekstowe 45"/>
          <p:cNvSpPr/>
          <p:nvPr/>
        </p:nvSpPr>
        <p:spPr>
          <a:xfrm>
            <a:off x="4083120" y="576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ole tekstowe 46"/>
          <p:cNvSpPr/>
          <p:nvPr/>
        </p:nvSpPr>
        <p:spPr>
          <a:xfrm>
            <a:off x="4678200" y="43894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940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ole tekstowe 47"/>
          <p:cNvSpPr/>
          <p:nvPr/>
        </p:nvSpPr>
        <p:spPr>
          <a:xfrm>
            <a:off x="5091120" y="3954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ole tekstowe 48"/>
          <p:cNvSpPr/>
          <p:nvPr/>
        </p:nvSpPr>
        <p:spPr>
          <a:xfrm>
            <a:off x="5091120" y="2886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1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25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bjaśnienie w chmurce 5"/>
          <p:cNvSpPr/>
          <p:nvPr/>
        </p:nvSpPr>
        <p:spPr>
          <a:xfrm>
            <a:off x="395280" y="2708280"/>
            <a:ext cx="4824360" cy="3132000"/>
          </a:xfrm>
          <a:prstGeom prst="cloudCallout">
            <a:avLst>
              <a:gd name="adj1" fmla="val -56171"/>
              <a:gd name="adj2" fmla="val 45768"/>
            </a:avLst>
          </a:prstGeom>
          <a:solidFill>
            <a:srgbClr val="00b0f0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Cecha podzielności liczb przez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2" name="Symbol zastępczy zawartości 2" descr=""/>
          <p:cNvPicPr/>
          <p:nvPr/>
        </p:nvPicPr>
        <p:blipFill>
          <a:blip r:embed="rId1"/>
          <a:stretch/>
        </p:blipFill>
        <p:spPr>
          <a:xfrm>
            <a:off x="3419640" y="2114640"/>
            <a:ext cx="470664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63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64" name="Łuk 9" descr=""/>
            <p:cNvPicPr/>
            <p:nvPr/>
          </p:nvPicPr>
          <p:blipFill>
            <a:blip r:embed="rId2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6" name="Objaśnienie prostokątne zaokrąglone 4"/>
          <p:cNvSpPr/>
          <p:nvPr/>
        </p:nvSpPr>
        <p:spPr>
          <a:xfrm>
            <a:off x="4989600" y="4581360"/>
            <a:ext cx="4027320" cy="1743120"/>
          </a:xfrm>
          <a:prstGeom prst="wedgeRoundRectCallout">
            <a:avLst>
              <a:gd name="adj1" fmla="val 46726"/>
              <a:gd name="adj2" fmla="val 84439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rzyjrzyj się cyfrom jedności, co zauważasz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Jaki jest wniosek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 przeprowadzonej obserwacji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Obraz 22" descr=""/>
          <p:cNvPicPr/>
          <p:nvPr/>
        </p:nvPicPr>
        <p:blipFill>
          <a:blip r:embed="rId3"/>
          <a:stretch/>
        </p:blipFill>
        <p:spPr>
          <a:xfrm>
            <a:off x="6516720" y="849240"/>
            <a:ext cx="9730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5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6744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pole tekstowe 7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5527800" cy="1773360"/>
          </a:xfrm>
          <a:prstGeom prst="rect">
            <a:avLst/>
          </a:prstGeom>
          <a:ln w="0">
            <a:noFill/>
          </a:ln>
        </p:spPr>
      </p:pic>
      <p:pic>
        <p:nvPicPr>
          <p:cNvPr id="371" name="Obraz 2" descr=""/>
          <p:cNvPicPr/>
          <p:nvPr/>
        </p:nvPicPr>
        <p:blipFill>
          <a:blip r:embed="rId3"/>
          <a:stretch/>
        </p:blipFill>
        <p:spPr>
          <a:xfrm>
            <a:off x="825480" y="2276640"/>
            <a:ext cx="408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9642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3" name="Symbol zastępczy zawartości 2" descr=""/>
          <p:cNvPicPr/>
          <p:nvPr/>
        </p:nvPicPr>
        <p:blipFill>
          <a:blip r:embed="rId1"/>
          <a:stretch/>
        </p:blipFill>
        <p:spPr>
          <a:xfrm>
            <a:off x="1262160" y="1633680"/>
            <a:ext cx="6888240" cy="4389120"/>
          </a:xfrm>
          <a:prstGeom prst="rect">
            <a:avLst/>
          </a:prstGeom>
          <a:ln w="0">
            <a:noFill/>
          </a:ln>
        </p:spPr>
      </p:pic>
      <p:grpSp>
        <p:nvGrpSpPr>
          <p:cNvPr id="374" name="Łuk 14"/>
          <p:cNvGrpSpPr/>
          <p:nvPr/>
        </p:nvGrpSpPr>
        <p:grpSpPr>
          <a:xfrm>
            <a:off x="762120" y="1438200"/>
            <a:ext cx="7315200" cy="324000"/>
            <a:chOff x="762120" y="1438200"/>
            <a:chExt cx="7315200" cy="324000"/>
          </a:xfrm>
        </p:grpSpPr>
        <p:pic>
          <p:nvPicPr>
            <p:cNvPr id="375" name="Łuk 14" descr=""/>
            <p:cNvPicPr/>
            <p:nvPr/>
          </p:nvPicPr>
          <p:blipFill>
            <a:blip r:embed="rId2"/>
            <a:stretch/>
          </p:blipFill>
          <p:spPr>
            <a:xfrm>
              <a:off x="762120" y="1438200"/>
              <a:ext cx="7315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38080" y="1487520"/>
              <a:ext cx="717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77" name="Grupa 26"/>
          <p:cNvGrpSpPr/>
          <p:nvPr/>
        </p:nvGrpSpPr>
        <p:grpSpPr>
          <a:xfrm>
            <a:off x="934560" y="2602080"/>
            <a:ext cx="973440" cy="461880"/>
            <a:chOff x="934560" y="2602080"/>
            <a:chExt cx="973440" cy="461880"/>
          </a:xfrm>
        </p:grpSpPr>
        <p:sp>
          <p:nvSpPr>
            <p:cNvPr id="378" name="Prostokąt 3"/>
            <p:cNvSpPr/>
            <p:nvPr/>
          </p:nvSpPr>
          <p:spPr>
            <a:xfrm>
              <a:off x="14040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9" name="pole tekstowe 5"/>
            <p:cNvSpPr/>
            <p:nvPr/>
          </p:nvSpPr>
          <p:spPr>
            <a:xfrm>
              <a:off x="9345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0" name="Grupa 25"/>
          <p:cNvGrpSpPr/>
          <p:nvPr/>
        </p:nvGrpSpPr>
        <p:grpSpPr>
          <a:xfrm>
            <a:off x="2525040" y="2606760"/>
            <a:ext cx="1183320" cy="461880"/>
            <a:chOff x="2525040" y="2606760"/>
            <a:chExt cx="1183320" cy="461880"/>
          </a:xfrm>
        </p:grpSpPr>
        <p:sp>
          <p:nvSpPr>
            <p:cNvPr id="381" name="Prostokąt 15"/>
            <p:cNvSpPr/>
            <p:nvPr/>
          </p:nvSpPr>
          <p:spPr>
            <a:xfrm>
              <a:off x="3204000" y="2708280"/>
              <a:ext cx="50436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pole tekstowe 16"/>
            <p:cNvSpPr/>
            <p:nvPr/>
          </p:nvSpPr>
          <p:spPr>
            <a:xfrm>
              <a:off x="2525040" y="26067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25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3" name="Grupa 6"/>
          <p:cNvGrpSpPr/>
          <p:nvPr/>
        </p:nvGrpSpPr>
        <p:grpSpPr>
          <a:xfrm>
            <a:off x="4456080" y="2602080"/>
            <a:ext cx="1411200" cy="461880"/>
            <a:chOff x="4456080" y="2602080"/>
            <a:chExt cx="1411200" cy="461880"/>
          </a:xfrm>
        </p:grpSpPr>
        <p:sp>
          <p:nvSpPr>
            <p:cNvPr id="384" name="Prostokąt 17"/>
            <p:cNvSpPr/>
            <p:nvPr/>
          </p:nvSpPr>
          <p:spPr>
            <a:xfrm>
              <a:off x="53632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pole tekstowe 18"/>
            <p:cNvSpPr/>
            <p:nvPr/>
          </p:nvSpPr>
          <p:spPr>
            <a:xfrm>
              <a:off x="489348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Prostokąt 21"/>
            <p:cNvSpPr/>
            <p:nvPr/>
          </p:nvSpPr>
          <p:spPr>
            <a:xfrm>
              <a:off x="4456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7" name="Grupa 24"/>
          <p:cNvGrpSpPr/>
          <p:nvPr/>
        </p:nvGrpSpPr>
        <p:grpSpPr>
          <a:xfrm>
            <a:off x="6302160" y="2602080"/>
            <a:ext cx="1798920" cy="461880"/>
            <a:chOff x="6302160" y="2602080"/>
            <a:chExt cx="1798920" cy="461880"/>
          </a:xfrm>
        </p:grpSpPr>
        <p:sp>
          <p:nvSpPr>
            <p:cNvPr id="388" name="Prostokąt 19"/>
            <p:cNvSpPr/>
            <p:nvPr/>
          </p:nvSpPr>
          <p:spPr>
            <a:xfrm>
              <a:off x="67716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pole tekstowe 20"/>
            <p:cNvSpPr/>
            <p:nvPr/>
          </p:nvSpPr>
          <p:spPr>
            <a:xfrm>
              <a:off x="63021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pole tekstowe 22"/>
            <p:cNvSpPr/>
            <p:nvPr/>
          </p:nvSpPr>
          <p:spPr>
            <a:xfrm>
              <a:off x="7277040" y="260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Prostokąt 23"/>
            <p:cNvSpPr/>
            <p:nvPr/>
          </p:nvSpPr>
          <p:spPr>
            <a:xfrm>
              <a:off x="7597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9642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7094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394" name="Łuk 14"/>
          <p:cNvGrpSpPr/>
          <p:nvPr/>
        </p:nvGrpSpPr>
        <p:grpSpPr>
          <a:xfrm>
            <a:off x="725400" y="1006560"/>
            <a:ext cx="7315200" cy="322200"/>
            <a:chOff x="725400" y="1006560"/>
            <a:chExt cx="7315200" cy="322200"/>
          </a:xfrm>
        </p:grpSpPr>
        <p:pic>
          <p:nvPicPr>
            <p:cNvPr id="395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00656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00280" y="1052640"/>
              <a:ext cx="71704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7" name="Grupa 8"/>
          <p:cNvGrpSpPr/>
          <p:nvPr/>
        </p:nvGrpSpPr>
        <p:grpSpPr>
          <a:xfrm>
            <a:off x="836640" y="3789360"/>
            <a:ext cx="5607000" cy="2679840"/>
            <a:chOff x="836640" y="3789360"/>
            <a:chExt cx="5607000" cy="2679840"/>
          </a:xfrm>
        </p:grpSpPr>
        <p:sp>
          <p:nvSpPr>
            <p:cNvPr id="398" name="Prostokąt 4"/>
            <p:cNvSpPr/>
            <p:nvPr/>
          </p:nvSpPr>
          <p:spPr>
            <a:xfrm>
              <a:off x="83664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Prostokąt 27"/>
            <p:cNvSpPr/>
            <p:nvPr/>
          </p:nvSpPr>
          <p:spPr>
            <a:xfrm>
              <a:off x="162828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Prostokąt 28"/>
            <p:cNvSpPr/>
            <p:nvPr/>
          </p:nvSpPr>
          <p:spPr>
            <a:xfrm>
              <a:off x="241200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Prostokąt 29"/>
            <p:cNvSpPr/>
            <p:nvPr/>
          </p:nvSpPr>
          <p:spPr>
            <a:xfrm>
              <a:off x="84420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Prostokąt 30"/>
            <p:cNvSpPr/>
            <p:nvPr/>
          </p:nvSpPr>
          <p:spPr>
            <a:xfrm>
              <a:off x="163620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Prostokąt 31"/>
            <p:cNvSpPr/>
            <p:nvPr/>
          </p:nvSpPr>
          <p:spPr>
            <a:xfrm>
              <a:off x="241992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Prostokąt 32"/>
            <p:cNvSpPr/>
            <p:nvPr/>
          </p:nvSpPr>
          <p:spPr>
            <a:xfrm>
              <a:off x="84420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Prostokąt 33"/>
            <p:cNvSpPr/>
            <p:nvPr/>
          </p:nvSpPr>
          <p:spPr>
            <a:xfrm>
              <a:off x="163620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Prostokąt 34"/>
            <p:cNvSpPr/>
            <p:nvPr/>
          </p:nvSpPr>
          <p:spPr>
            <a:xfrm>
              <a:off x="241992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Prostokąt 35"/>
            <p:cNvSpPr/>
            <p:nvPr/>
          </p:nvSpPr>
          <p:spPr>
            <a:xfrm>
              <a:off x="422136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Prostokąt 36"/>
            <p:cNvSpPr/>
            <p:nvPr/>
          </p:nvSpPr>
          <p:spPr>
            <a:xfrm>
              <a:off x="501300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Prostokąt 37"/>
            <p:cNvSpPr/>
            <p:nvPr/>
          </p:nvSpPr>
          <p:spPr>
            <a:xfrm>
              <a:off x="579672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Prostokąt 38"/>
            <p:cNvSpPr/>
            <p:nvPr/>
          </p:nvSpPr>
          <p:spPr>
            <a:xfrm>
              <a:off x="422892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Prostokąt 39"/>
            <p:cNvSpPr/>
            <p:nvPr/>
          </p:nvSpPr>
          <p:spPr>
            <a:xfrm>
              <a:off x="502092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Prostokąt 40"/>
            <p:cNvSpPr/>
            <p:nvPr/>
          </p:nvSpPr>
          <p:spPr>
            <a:xfrm>
              <a:off x="580464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Prostokąt 41"/>
            <p:cNvSpPr/>
            <p:nvPr/>
          </p:nvSpPr>
          <p:spPr>
            <a:xfrm>
              <a:off x="422892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Prostokąt 42"/>
            <p:cNvSpPr/>
            <p:nvPr/>
          </p:nvSpPr>
          <p:spPr>
            <a:xfrm>
              <a:off x="502092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Prostokąt 43"/>
            <p:cNvSpPr/>
            <p:nvPr/>
          </p:nvSpPr>
          <p:spPr>
            <a:xfrm>
              <a:off x="580464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6" name="Grupa 9"/>
          <p:cNvGrpSpPr/>
          <p:nvPr/>
        </p:nvGrpSpPr>
        <p:grpSpPr>
          <a:xfrm>
            <a:off x="2440440" y="2723760"/>
            <a:ext cx="2694960" cy="927360"/>
            <a:chOff x="2440440" y="2723760"/>
            <a:chExt cx="2694960" cy="927360"/>
          </a:xfrm>
        </p:grpSpPr>
        <p:sp>
          <p:nvSpPr>
            <p:cNvPr id="417" name="Prostokąt 44"/>
            <p:cNvSpPr/>
            <p:nvPr/>
          </p:nvSpPr>
          <p:spPr>
            <a:xfrm rot="20719200">
              <a:off x="2530080" y="279180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Prostokąt 45"/>
            <p:cNvSpPr/>
            <p:nvPr/>
          </p:nvSpPr>
          <p:spPr>
            <a:xfrm rot="858000">
              <a:off x="3496320" y="279072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Prostokąt 46"/>
            <p:cNvSpPr/>
            <p:nvPr/>
          </p:nvSpPr>
          <p:spPr>
            <a:xfrm>
              <a:off x="4496400" y="2828160"/>
              <a:ext cx="639000" cy="7912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20" name="Objaśnienie prostokątne zaokrąglone 7"/>
          <p:cNvSpPr/>
          <p:nvPr/>
        </p:nvSpPr>
        <p:spPr>
          <a:xfrm>
            <a:off x="6732720" y="3573360"/>
            <a:ext cx="2303280" cy="1295640"/>
          </a:xfrm>
          <a:prstGeom prst="wedgeRoundRectCallout">
            <a:avLst>
              <a:gd name="adj1" fmla="val 56050"/>
              <a:gd name="adj2" fmla="val 85648"/>
              <a:gd name="adj3" fmla="val 16667"/>
            </a:avLst>
          </a:prstGeom>
          <a:solidFill>
            <a:srgbClr val="ff6700"/>
          </a:solidFill>
          <a:ln w="1584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Czy w miejsce kratek  można wpisać tylko jedną cyfrę?  Odpowiedź uzasadnij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2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414440"/>
            <a:ext cx="70945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23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24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487600" y="3213000"/>
          <a:ext cx="4105440" cy="27813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92160" y="1699920"/>
            <a:ext cx="709632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sumy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1 + 72 + 73 + 74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54 + 56 + 58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33 + 35 + 37 =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suma kolejnych dziesięciu liczb pierwsz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suma kolejnych pięciu liczb złożon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suma dowolnych liczb naturalnych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29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0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2" name="Obraz 5" descr=""/>
          <p:cNvPicPr/>
          <p:nvPr/>
        </p:nvPicPr>
        <p:blipFill>
          <a:blip r:embed="rId2"/>
          <a:stretch/>
        </p:blipFill>
        <p:spPr>
          <a:xfrm>
            <a:off x="7489800" y="144792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75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99640" y="1628640"/>
            <a:ext cx="7094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55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iloczyny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2 · 3 · 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4 · 6 · 8 · 9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121 · 4 =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pierwsz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1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0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 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złożon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7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Wykonując obliczenia skorzystaj z kalkulatora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iloczyn dowolnych liczb naturalnych jest podzielny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35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6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8" name="Obraz 5" descr=""/>
          <p:cNvPicPr/>
          <p:nvPr/>
        </p:nvPicPr>
        <p:blipFill>
          <a:blip r:embed="rId2"/>
          <a:stretch/>
        </p:blipFill>
        <p:spPr>
          <a:xfrm>
            <a:off x="7738920" y="141300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75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4:53Z</dcterms:modified>
  <cp:revision>84</cp:revision>
  <dc:subject/>
  <dc:title>Mnożenie i dzielenie w zadaniach</dc:title>
</cp:coreProperties>
</file>